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3CA-3FF3-457D-9504-1FA76A97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A94-7919-4C5A-A3DF-2FB035A5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E07-9364-4D5C-857D-8A4D7040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330-6D3F-490D-9439-5BC2D0A1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F14-1D62-49CC-82C8-E0CCF4C0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F96-5F99-4686-AA15-531D6169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28E-4CA4-4E25-B0DE-5BB6090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474-6C79-4763-828D-1DBEC9EC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3AC-06BE-4E6C-9177-DCDDA70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EB3-9D60-473F-B489-45FE223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8E8-36A4-4CC9-AC59-42461AC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D03-5650-4998-A48F-F774439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4B9C-943A-48DF-A476-777EE8169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sati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3352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ati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tie R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ing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Paint and draw a satire.You are encouraged to create your own, but if you cannot think of one, then you may draw an example already cove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select groups for a group project where students will create a play or a video of a satire. Students will choose their own concept or ideal to sat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his lesson, students will be able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hat sati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nd recognize examples of satire in literature an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ati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irony, sarcasm, or ridicule to expose or denounce vice, foll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http://dictionary.reference.com/browse/sat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Satire in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George Or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Being Earn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Oscar Wil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istc-1984"/>
          <p:cNvPicPr/>
          <p:nvPr/>
        </p:nvPicPr>
        <p:blipFill>
          <a:blip r:embed="rId1"/>
          <a:stretch/>
        </p:blipFill>
        <p:spPr>
          <a:xfrm>
            <a:off x="6705720" y="1752480"/>
            <a:ext cx="197964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tire in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pe of the 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: Alexander P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ide in Parties, and begin th' Attack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s clap, Silks russle, and tough Whalebones crack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and Heroins Shouts confus'dly ris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ase, and treble Voices strike the Sk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mon Weapons in their Hands are found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Gods they fight, nor dread a mortal Woun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Satire i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L: Sarah Pa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youtube.com/watch?v=tjZW4z9zqq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L: Snoo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youtube.com/watch?v=VlQjVm33u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ncess Bride--pokes fun at traditional heroic tales and roles of the hero, villain, lad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Guy, Futurama, The Simp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istc-princessbride"/>
          <p:cNvPicPr/>
          <p:nvPr/>
        </p:nvPicPr>
        <p:blipFill>
          <a:blip r:embed="rId1"/>
          <a:stretch/>
        </p:blipFill>
        <p:spPr>
          <a:xfrm>
            <a:off x="6553080" y="762120"/>
            <a:ext cx="2119320" cy="180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stc-family-guy"/>
          <p:cNvPicPr/>
          <p:nvPr/>
        </p:nvPicPr>
        <p:blipFill>
          <a:blip r:embed="rId2"/>
          <a:stretch/>
        </p:blipFill>
        <p:spPr>
          <a:xfrm>
            <a:off x="6172200" y="4483080"/>
            <a:ext cx="281952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stc-futurama"/>
          <p:cNvPicPr/>
          <p:nvPr/>
        </p:nvPicPr>
        <p:blipFill>
          <a:blip r:embed="rId3"/>
          <a:stretch/>
        </p:blipFill>
        <p:spPr>
          <a:xfrm>
            <a:off x="533520" y="4648320"/>
            <a:ext cx="3528720" cy="198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stc-Simpsons_Abbey-Road"/>
          <p:cNvPicPr/>
          <p:nvPr/>
        </p:nvPicPr>
        <p:blipFill>
          <a:blip r:embed="rId4"/>
          <a:stretch/>
        </p:blipFill>
        <p:spPr>
          <a:xfrm>
            <a:off x="4191120" y="2971800"/>
            <a:ext cx="24908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an example of satire that has not been mentioned. Use your computer to find a video, a picture of a book, or any other piece of literature that is an example of sat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Sat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huffingtonpost.com/news/sat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atires in Litera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spiritus-temporis.com/satire/notable-examples-of-satir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atires in Fil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ouplescompany.com/features/ct/Movies/Satir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3:44:16Z</dcterms:created>
  <dc:creator>Katie Rizer</dc:creator>
  <dc:description/>
  <dc:language>en-US</dc:language>
  <cp:lastModifiedBy>evaluation</cp:lastModifiedBy>
  <dcterms:modified xsi:type="dcterms:W3CDTF">2010-12-07T16:28:18Z</dcterms:modified>
  <cp:revision>5</cp:revision>
  <dc:subject/>
  <dc:title>Satire</dc:title>
</cp:coreProperties>
</file>